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D684-FAD9-4A22-8488-104FC8BB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DFEC-3DC7-4354-BFB4-44ACE000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3C08-183B-42CC-9667-825D5838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422B-5042-4753-9D52-7A5A8375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B2EB-854D-499A-9F20-2A1411D8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012A-FB9C-4DA4-B68A-330D6E4B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6F2E-FB90-4F2F-90B0-F93696B0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2ECE-C081-44CB-BE53-0ED4769F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9E4B-8D8A-4EAF-A78B-61C16FBB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82B3-64C8-4235-9D7B-ECEC69BB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DD20-B65D-48E2-90AC-71DDC39B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C9455-D682-4F45-9697-76AC4070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92CE-142A-48FC-AF54-63F9608D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2A2A-8D27-43FD-A296-E3C7CD0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9715-544B-4978-8678-43CE90A8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0C21-016B-4100-BC77-8ED90B2E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F226-B6B6-475D-9CE6-A519E870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3F14-0B70-4BB1-BAF9-AF74426A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96AE-2B86-4BB2-B1E6-AA5469CD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A586-73D2-4350-9438-73768B8A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A78A-5338-401A-9452-BE83E772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E362-B790-45E4-BB89-A1BFD20C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3F01-30B7-44D5-A7FC-64543073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37A9-F165-435F-A516-205CC17C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BFC7-64A6-4539-A0BC-2C96D461EB7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15E7-482B-4B90-A1BC-8240214B67E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Въздържание! Славно им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уй се по све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 ще махне тежко брем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мали грех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напред, все към побе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ка се стрем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япорецът* се развя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е ще победи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И съюзът „въздържание"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ш е силен щит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коро ще се чуй хваление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рагът е надвит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напред, все към побе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ка се стрем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япорецът* се развя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е ще победи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иляди пиянство мъч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оди в пропаст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емейства да разлъч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рси по све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напред, все към побе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ка се стрем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япорецът* се развя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е ще победи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Ние на туй зло ще премахнем примамливий вид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работим, докат' чуем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рагът е надвит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541440" y="1292040"/>
            <a:ext cx="100821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3500" spc="-1" strike="noStrike">
                <a:solidFill>
                  <a:srgbClr val="ffffff"/>
                </a:solidFill>
                <a:latin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Ей, напред, все към побед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ка се стремим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япорецът* се развява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ие ще победим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15T07:37:23Z</dcterms:modified>
  <cp:revision>199</cp:revision>
  <dc:subject/>
  <dc:title>Slide 1</dc:title>
</cp:coreProperties>
</file>